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BD1-A0B0-4E35-9634-DF180E59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025-E149-4AB0-A036-E281532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6EF19-EEE6-4D1B-BAAE-D37F4438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94F7E-955A-4015-A68F-927419D2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2287F-51EB-4321-A7F1-A54FB0B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3608C-5933-4B66-9644-C6DB39DD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8589F-555A-4268-866D-62145758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4BCD2-03EF-4CB0-B8F6-86DCF951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525C0-5A2A-494A-8207-D447159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31C39-620A-4C66-9A45-098D25E9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A43DC-7B02-4FBB-B8A7-AC0A3060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CE800-6F80-4CCE-805E-C05B3B80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42B-5AEF-40FC-A660-7314EB57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73EA0-3ED8-41F7-BEC0-41FD4423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0F7E8-0790-40AB-8559-277CBFBD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4B838-4D97-4BC9-AD03-E35B31FF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9868F-55EB-4C91-9FBC-D2ED2317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16B71-9E5D-49F0-BB31-B739FFF7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97B03-4105-4B1E-978C-D8BC0BC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CD2C2-4080-43E9-9FF5-CE8D1369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F1251-E461-4256-B320-030A7F7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439F3-AAB7-445F-9653-CD4EA57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083CB-ABD8-487D-B27E-B5E1398B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CC0-8421-4FD8-BC28-63314546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F033A-2265-4F81-8C81-2E60CC8F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2B82B-1AB6-44D9-A425-812B7390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3A6C1-9A3E-4510-A21A-3A66041F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DA8AB-5BE5-4C45-8E0B-F448D9D0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F2C0C-757C-4063-A61D-448CCE48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AAF0D-AB89-49F1-B261-BA11E44D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B262D-C425-4440-B1A5-0D4C46E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3286B-9153-4625-98C7-487408A0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8F804-D384-41CD-86F3-E96D1E34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F88C6-3195-4619-B67D-EB18A9D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C961-C528-4187-A8A4-AA694BEA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6D5F2-CB10-4BF5-A2AE-11BAA195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65F3B-16C3-4EB5-99DE-FFE33983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E075C-156C-4308-9CD3-57DA9F74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69B83-2145-4B70-B616-F92A70E0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FC7E3-7BF5-44D3-AB80-B1389BA1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A5B84-7A6F-4B3D-86F7-D3DCCD67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CF13F-C1D1-4EFA-A2A5-8BDA4CAC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F6736-7717-4938-985B-84DA05E5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6A081-A562-4A77-AD45-D7A00441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D85AE-389A-4A26-A55F-3554945B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8EF8-071E-4059-A792-C64A04CF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185DE-5397-4D66-9B47-83E9362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5C1E1-4E74-4931-8480-7FAC839A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34F51-AB9A-46F9-95F2-E5E4D943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D4E3E-A1CC-4E77-A9F9-6DF5DCA3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B4CD5-DF57-448B-A3BA-68B9C40D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57C13-4347-4BED-B39D-E31396B9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EE5C0-B07F-4B5C-8145-D591BE71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83BAE-BA2D-4006-B91D-9F21ECA8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DFBC6-94BB-4C48-88AC-5BD4E08A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6ACDC-D4A6-4C14-873D-5EA64128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171A-6878-4D02-8F7B-106C0497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14141-63BB-4990-B322-15436654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B5810-6533-4796-B733-DC5EDE75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811EB-721D-4265-B2ED-0B6BC0F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8EE4F-988D-480A-B1AE-979BEB70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7599A-2F07-4E01-85CB-756E5E89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B1F0D-7B9B-43D8-8983-36132880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5CCE3-7A77-46DB-8401-9DB97108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0CB9D-AA8E-46E4-96C8-50F78B1F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A167E-69D6-430A-AD01-2880D646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831C9-F0D3-4C31-9884-0A4DEFF0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06A5-46C4-48E5-B57A-F95F707B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6DDEC-BDBF-4AD5-B564-AB00012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E27BA-53ED-4A2D-9AA5-5B01B6E3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4C8CE-47AB-4B92-9C58-FF955BBF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8C6AC-EE90-48F9-B194-7751A5E5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648DE-4B7B-42D4-A664-915047AC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98E33-C397-41A7-A58E-179A41D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FDFC1-C050-48D3-8773-D85698F8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DB6E2-3CD2-406A-9D74-9A17FEEF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A6B88-C762-45D1-ABC0-5A256754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3E12B-C290-4C77-82E3-9C4DE51F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742E-A626-44EE-A923-3251EBB1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95934-0112-4213-9EDB-7428DE12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3D419-D78B-4D14-BEDC-66661C8E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613F0-2F45-45A0-9B48-D88EA34A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C5A4F-C647-48A2-9651-509245A4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D65CE-DF36-4AB2-9D09-D5021E0C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17D15B-84E6-4FB2-85C0-29AC1EC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4295D-3571-40F7-BD6F-85FB9BE6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304E8-A129-464D-86BC-E4C0F0B9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90C8A-E333-4799-80FC-9F2C1509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7D65A-0374-44A2-AFAB-6A3DCE0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76ED-0BEF-4EBE-8C66-7C0A2429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2AE13-F791-4B57-A81C-16BE8A0B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7CF30-FA8D-4E06-8EC0-BBF06176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2671A0-BA6C-4136-A6C6-411013E7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5186E-C3EF-460C-89C7-1770EB64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45EC8-F656-40BC-B6AA-F11CDAB5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35544-01B3-47F1-91CB-58127863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DAADAD-E527-483A-9081-87E9BC7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D74D6-ED1B-4D36-B52D-6288BC3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73F46-8165-47DA-AC21-F1DEE8F1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353D6-A378-46F9-B2C1-98F9B5F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2A7D-9918-4D75-8E22-7CD36A0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B0A8E-B1A6-48C8-B3AB-096BD4A2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C76D3-ACC4-4305-8F91-5187642D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218A9-1D77-40E4-AF95-E19FD85D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87E08-719E-4EEB-9768-E50ADDBA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0233E-9CB2-4ED1-A8CF-43E4E1E4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A2358-A2C7-4407-897B-931ED5D4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982E3-7772-4ADB-A1F3-2EBEFE8D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1F0AF1-8E7A-4AD7-8A47-609CC1C8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889B5-FEB3-4507-80A9-7FDDFC9C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E4E9B-BB2C-44E6-880E-6890D7A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23E-BA43-42E5-ACFA-FAB52043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DBBA-E021-4CB2-B677-56AB938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657C0-DD7D-4E39-A6AE-AE8627CB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8070A-0539-426A-BB19-986A9D8B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82344-8CD8-41D5-9243-6A61D48D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644EC-6D1D-49DB-BB44-0AD15542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55ABC-42CE-4432-A68C-2EDB363C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97D845-D3BC-426E-A1E9-67F6EAB0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C8DE81-14CA-4C42-AF5C-C7FA4A96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F11E7-67AA-4B78-9199-3135C4FD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31758-4B78-40C2-B5B8-AB6976D3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7BE497-1554-4010-BAC2-20A8E81E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2733-B7C5-4062-BE8D-97B3F4B3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3C1670-F4B4-4E24-8EFD-C4AF5B51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F4221-BE45-4F06-A4EA-FB2B98E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044943-B2A8-4031-A641-1CDFB783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89201A-28B5-455D-89D2-38051B5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13B3C0-501D-4CDB-AAB6-816F74EB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4EC7A-7EB2-466C-BE99-AF0802AF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7C19C-D9D9-45F5-BB25-62AEF6D0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9DB1E-2A84-43C6-95EE-7E387219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4810D-A12C-4546-A411-92E9E447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3A2776-1B3D-4406-8774-8A8B787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CB3C-289D-4F8D-B0D3-C14FC2C4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E707B-D07E-4976-8345-A235C993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EE49C-1AC8-4A91-B539-536B0FA2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E6A03-C940-493A-B057-93E79BFC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5718C-1B77-4B14-8AFF-3D4BEA13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5B6E4-7005-4167-9750-CE7B910B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FD44E-7171-43A8-B649-AEEF4FD3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10CD50-C36D-43F8-B954-80B1C7EE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E8ECF6-5F94-4DB8-9DD4-F37A89D0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8213A-F63E-48B6-8923-5965EC3B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3848B-BBAF-4F76-864F-87672D7F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ECE5-CAA0-4D59-91D7-0CD54C35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DA01A3-87A7-4F51-B162-CDAC4498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7A811-64D5-48F8-8AC8-D08E0BAA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613B5-9016-4AA8-AB6B-F2055FE8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C2E5A-DF5D-4FDE-8974-9B5AA169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B3D6AB-2393-4FDC-A726-6AB06B66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85B18-1EB4-4427-841C-6A19067A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E0C02-53DB-405E-B8F5-3FD99492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956EB-6A35-449A-A48E-FA6FE3FC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7C1C3-2A4F-4A11-B703-91675F5D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A6049-46D7-413D-912A-575A6B0C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1600-EAF9-4470-8653-F892BC0F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16CDC-8D98-4056-A6A2-51EF90D6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ACE0FA-A4F9-418F-9F6D-77936205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9EA05-32A7-4144-8AF3-C39F3EF0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AF304-ED70-468D-9BCF-27669563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21A5DE-EA89-4230-AB89-AA149A78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03E62-9C75-404E-BFE8-571DD2E8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1AF525-14E8-4596-AA89-7D5074E1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B2C83-4A56-482F-B926-71137A6E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1F20A-95A9-40A4-8975-B71FFC0B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912CD-62B9-4008-9BC8-3014D320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FD84-4071-42A9-8BFC-291F0916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3BA28-BBD8-4C30-ACD1-4C4E96CC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FF9D9-AAD2-4F0D-A652-09924C40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DCF63B-62D6-482E-A686-76C8C5A5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49CD1-C79A-4400-9DA0-ADEA6CD3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0EED-3ED7-4365-B07A-89134AD4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9146-F34A-4CA2-A1FD-1F424464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3FC3-4DB1-4BFB-AB13-971C12FD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3AB-4659-4A38-A99B-D504CB60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CD8C-0265-4212-A00B-9FEC0321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3AE3-CFD8-49E9-A153-BDB7F68B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D235-2863-4510-B1F3-3F80BD28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3C2C3-CFB0-4D41-B0B0-69A6F344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6B39-CE09-4690-A53E-463186E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4521-043B-43D2-A719-F0FDE870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7ADD2-C3CF-47DF-9942-4F124906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2337-85A7-4FC2-B7B9-256A6748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3CC4-7DF6-47B4-8857-7B25BEBC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CC31-C158-4B04-BF67-C7477C4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23D-3DC3-446F-879E-992BB1F8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8FB3-84FD-4B71-994D-C4521C66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EDE4F-A08D-4F08-AB89-7A4654CA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00537-3A88-4808-90B3-D15B4DCC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318A-C08C-4738-8517-8026B6B7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92A3-1C44-4CC3-A166-96C957EA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EA3E8-ED3D-47BB-99D9-24E67CF9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5D829-B801-4414-B649-B31FCE3A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26B3-60C7-479C-98BE-2604D932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3520-57E5-4EC1-AEDC-3F9041CD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3AAC2-EFB7-4280-9DF6-6954FD08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D46-B221-4FDA-8E8C-E4C8E12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B4736-AD31-4A6D-A17B-2D64BDE3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584A1-73E9-48D7-B267-3B9A47D1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17D0E-4530-44D1-A97F-80EC2BA1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CCCA7-D1F8-4BCF-A000-7AAD75B0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1858-9E3F-4B86-A63B-82CE874D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0CB4D-B1E8-465B-96E2-33041E36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6D847-47D5-4AC6-BF03-23D1F26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3C28F-5244-4CBF-90D9-3A4C0BA3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52C13-089D-4CBA-AD6C-B0AC09E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65465-0337-402D-8615-A5BB0B1E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84A-DBA5-4729-9E83-5DB4008E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5DED0-EE6D-4F22-894D-5A6DF597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8EC8-C6F3-45DB-BDEC-C918F950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94DA6-0C17-4C9F-81E6-F8DCFA23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71D40-4F4B-40F0-A14F-9B575BB5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5312-D688-4042-B627-E2626FE9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E84F-5A82-432B-A0E3-A32B2CFC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1064C-BE9A-4188-A497-51AD8953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9EFBE-F9AF-48A3-B2C2-41413A7E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2A50-0D9F-4118-BF30-7A324B9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36AE-B8CA-427A-A1F3-DE205DD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718-679F-497E-974F-5E07A74E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EB09-42A6-4DB9-9D17-FB60FEF3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0ECC3-47F3-4612-AEF6-AFA6AA53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CB6F3-8CC8-4A11-9E3A-7840F555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CBA9A-B220-4D89-A4A2-743BA2B8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4E3C9-FD57-4DE7-B476-B4F8792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5D9D-7566-41E1-A95A-04608EAF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5D2C-027D-43DD-8F1B-F71DE43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2CD59-5FBA-468A-8437-4BFC4D85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95869-C6E4-40EF-8904-60A1A47E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C5BC8-B0BE-4470-B119-8272CB8A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861-6882-49EA-9043-4F3464F5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975F-5F93-4E3D-B9DA-90DC2DD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78679-BFF0-4868-81E5-21C32A5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51CF7-2D05-4B36-8325-8B710942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F0CC7-7833-400E-9D22-2AEE4FED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2155D-865F-4A38-B145-8631A6D9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2E132-4213-4CBB-B9FD-740F6BF2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4BEE6-BD32-4A57-B3D5-DD2F7E5E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2AA1E-E2B6-4B7B-9F52-8CEDFACE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E1CAB-DE59-4550-BF31-462C46BD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9CA6B-F9E8-48A1-A6A4-28133005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0A5-4889-45CF-B73B-958C43E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D3C46-A506-4951-96C3-2B78CB63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89088-B8C8-4248-9FD1-1181E6D2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E299B-7924-4E57-98D0-03A0DC9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1EE33-5C2A-4B9B-A0FD-9262E882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BA115-07F5-438D-A724-DBA2CB2A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017F-0CB2-4DB7-BB53-F0919EFF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F6BDD-114A-43CD-A948-871E57FC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056EB-713E-4C51-A841-730E266B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B0311-DD01-4DBE-BB94-4E8F38BA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52926-9241-4E33-A4F5-0BDFEDF0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C129-ED5F-47BE-A498-EA604E8F2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3A27-9BF5-4C9D-829B-866DC67DF8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25BD-4A16-403F-9820-2243A622E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2B98-7E28-428D-9728-44ECB8AF6C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A253-61CA-4ED9-ABD6-943D26A40B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9DA1-400A-4C17-97A5-5D949A7D8D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DE5-5486-4039-8B21-B8188F66E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6A34-A5BF-4642-8F12-A25CDC982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3A98-2F00-4A2A-BB62-877D618028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189-39EC-448F-AD0A-8A5FA0E357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D429-11D3-4602-9623-DE178AF16D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B77E-8456-47E3-878E-6D2ADB6F0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D54E-37B6-4338-BCAF-61ABC8CF6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AFCA-09CE-406B-BF7D-62EE9265BA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CA9C-FD3A-4B9F-9778-F6E64744E9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6A42-91CA-4A11-B5CF-6EB9732D5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8E13-DCA1-4A7B-A072-B43FF0E127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9BD6-4BF9-4407-903D-DDE446B92A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D93-A344-4429-8EB4-18B421D15E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EC06-2849-410B-8625-337050CD2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9AA8-983A-43CA-A7C4-53E399439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6BE7-C9E7-4FA2-AD48-3396BD1DE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C55-5EFE-40A4-814D-73D7901A6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8750-9BB4-4210-AE9C-82D24E1F9A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057E-C790-492C-9AE6-380ECB6C29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D065-4D39-4DCF-A012-ADB9A8B358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C66-DD3E-4653-AE3F-E3C2F07233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C0BE-0CE6-4C99-A8E7-E125DEAF1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59D7-03CF-49D9-9803-01BD3F3BD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2FAE-0004-44D2-974F-8BEAEAAFB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82B5-AB41-4C23-B5E3-FE41375FCF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9758-DBBC-4FC3-A830-190C3DDA13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1813-0796-4B5F-A13D-AE0517FB89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72FA-B3B5-4A85-8D3D-918615200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B2E5-8587-4B48-8D66-2DD8ABA412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C3D7-A663-4DCA-A841-F41FD9E22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2DEB-54F3-4219-9EDF-72FA1E5004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EAE-2874-4238-B6EB-756246A921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2F8-61B6-43CF-9C48-D7F9F2392B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B669-3A9B-48B6-8172-67C340A9C2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500120" y="3214800"/>
            <a:ext cx="5662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414360" y="1004760"/>
            <a:ext cx="8315280" cy="5639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2"/>
          <a:stretch/>
        </p:blipFill>
        <p:spPr>
          <a:xfrm>
            <a:off x="7358040" y="928800"/>
            <a:ext cx="1228680" cy="504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3714840" y="242892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3197160" y="2903400"/>
            <a:ext cx="1071720" cy="287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3143160" y="3301920"/>
            <a:ext cx="1214640" cy="287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3946680" y="378288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3143160" y="4257720"/>
            <a:ext cx="1071720" cy="287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3071880" y="4656240"/>
            <a:ext cx="1214280" cy="287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6697800" y="243216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6180120" y="2905200"/>
            <a:ext cx="1071720" cy="287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6126120" y="3303720"/>
            <a:ext cx="1214640" cy="287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6929280" y="3786120"/>
            <a:ext cx="285840" cy="287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6126120" y="4260960"/>
            <a:ext cx="1071720" cy="287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6054840" y="4659480"/>
            <a:ext cx="1374840" cy="287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2222640" y="5840280"/>
            <a:ext cx="428400" cy="287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2465280" y="624060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5072040" y="582300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18"/>
          <a:stretch/>
        </p:blipFill>
        <p:spPr>
          <a:xfrm>
            <a:off x="5311800" y="621504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19"/>
          <a:stretch/>
        </p:blipFill>
        <p:spPr>
          <a:xfrm>
            <a:off x="7840800" y="5823000"/>
            <a:ext cx="428400" cy="287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20"/>
          <a:stretch/>
        </p:blipFill>
        <p:spPr>
          <a:xfrm>
            <a:off x="8064360" y="6197760"/>
            <a:ext cx="4287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Picture 1" descr=""/>
          <p:cNvPicPr/>
          <p:nvPr/>
        </p:nvPicPr>
        <p:blipFill>
          <a:blip r:embed="rId1"/>
          <a:srcRect l="0" t="0" r="0" b="35145"/>
          <a:stretch/>
        </p:blipFill>
        <p:spPr>
          <a:xfrm>
            <a:off x="480960" y="1523880"/>
            <a:ext cx="8182080" cy="4262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2" descr=""/>
          <p:cNvPicPr/>
          <p:nvPr/>
        </p:nvPicPr>
        <p:blipFill>
          <a:blip r:embed="rId2"/>
          <a:stretch/>
        </p:blipFill>
        <p:spPr>
          <a:xfrm>
            <a:off x="7715160" y="4071960"/>
            <a:ext cx="1071720" cy="1962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3"/>
          <a:stretch/>
        </p:blipFill>
        <p:spPr>
          <a:xfrm>
            <a:off x="2311560" y="2017800"/>
            <a:ext cx="428400" cy="287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4"/>
          <a:stretch/>
        </p:blipFill>
        <p:spPr>
          <a:xfrm>
            <a:off x="5214960" y="201780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5"/>
          <a:stretch/>
        </p:blipFill>
        <p:spPr>
          <a:xfrm>
            <a:off x="8118360" y="201780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6"/>
          <a:stretch/>
        </p:blipFill>
        <p:spPr>
          <a:xfrm>
            <a:off x="2571840" y="2428920"/>
            <a:ext cx="428400" cy="287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7"/>
          <a:stretch/>
        </p:blipFill>
        <p:spPr>
          <a:xfrm>
            <a:off x="5429160" y="242892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8"/>
          <a:stretch/>
        </p:blipFill>
        <p:spPr>
          <a:xfrm>
            <a:off x="8358120" y="2427120"/>
            <a:ext cx="428760" cy="287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9"/>
          <a:stretch/>
        </p:blipFill>
        <p:spPr>
          <a:xfrm>
            <a:off x="5000760" y="4572000"/>
            <a:ext cx="25002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1" descr=""/>
          <p:cNvPicPr/>
          <p:nvPr/>
        </p:nvPicPr>
        <p:blipFill>
          <a:blip r:embed="rId1"/>
          <a:stretch/>
        </p:blipFill>
        <p:spPr>
          <a:xfrm>
            <a:off x="914400" y="2300400"/>
            <a:ext cx="7315200" cy="2257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2"/>
          <a:stretch/>
        </p:blipFill>
        <p:spPr>
          <a:xfrm>
            <a:off x="2743200" y="2928960"/>
            <a:ext cx="428760" cy="287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3"/>
          <a:stretch/>
        </p:blipFill>
        <p:spPr>
          <a:xfrm>
            <a:off x="2982960" y="3303720"/>
            <a:ext cx="372960" cy="287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4"/>
          <a:stretch/>
        </p:blipFill>
        <p:spPr>
          <a:xfrm>
            <a:off x="4903920" y="2946240"/>
            <a:ext cx="428400" cy="287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5"/>
          <a:stretch/>
        </p:blipFill>
        <p:spPr>
          <a:xfrm>
            <a:off x="5143680" y="3321000"/>
            <a:ext cx="372960" cy="28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6"/>
          <a:stretch/>
        </p:blipFill>
        <p:spPr>
          <a:xfrm>
            <a:off x="7377120" y="2965320"/>
            <a:ext cx="428760" cy="2876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7"/>
          <a:stretch/>
        </p:blipFill>
        <p:spPr>
          <a:xfrm>
            <a:off x="7618320" y="3340080"/>
            <a:ext cx="371520" cy="2872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8"/>
          <a:stretch/>
        </p:blipFill>
        <p:spPr>
          <a:xfrm>
            <a:off x="1357200" y="4286160"/>
            <a:ext cx="3733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1" descr=""/>
          <p:cNvPicPr/>
          <p:nvPr/>
        </p:nvPicPr>
        <p:blipFill>
          <a:blip r:embed="rId1"/>
          <a:stretch/>
        </p:blipFill>
        <p:spPr>
          <a:xfrm>
            <a:off x="3848040" y="1905120"/>
            <a:ext cx="1447920" cy="4238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"/>
          <p:cNvPicPr/>
          <p:nvPr/>
        </p:nvPicPr>
        <p:blipFill>
          <a:blip r:embed="rId2"/>
          <a:stretch/>
        </p:blipFill>
        <p:spPr>
          <a:xfrm>
            <a:off x="4876920" y="2739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"/>
          <p:cNvPicPr/>
          <p:nvPr/>
        </p:nvPicPr>
        <p:blipFill>
          <a:blip r:embed="rId3"/>
          <a:stretch/>
        </p:blipFill>
        <p:spPr>
          <a:xfrm>
            <a:off x="4978440" y="31305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"/>
          <p:cNvPicPr/>
          <p:nvPr/>
        </p:nvPicPr>
        <p:blipFill>
          <a:blip r:embed="rId4"/>
          <a:stretch/>
        </p:blipFill>
        <p:spPr>
          <a:xfrm>
            <a:off x="4978440" y="35416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5"/>
          <a:stretch/>
        </p:blipFill>
        <p:spPr>
          <a:xfrm>
            <a:off x="4978440" y="39704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"/>
          <p:cNvPicPr/>
          <p:nvPr/>
        </p:nvPicPr>
        <p:blipFill>
          <a:blip r:embed="rId6"/>
          <a:stretch/>
        </p:blipFill>
        <p:spPr>
          <a:xfrm>
            <a:off x="4871880" y="43830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" descr=""/>
          <p:cNvPicPr/>
          <p:nvPr/>
        </p:nvPicPr>
        <p:blipFill>
          <a:blip r:embed="rId7"/>
          <a:stretch/>
        </p:blipFill>
        <p:spPr>
          <a:xfrm>
            <a:off x="4857840" y="48117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"/>
          <p:cNvPicPr/>
          <p:nvPr/>
        </p:nvPicPr>
        <p:blipFill>
          <a:blip r:embed="rId8"/>
          <a:stretch/>
        </p:blipFill>
        <p:spPr>
          <a:xfrm>
            <a:off x="4978440" y="51847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"/>
          <p:cNvPicPr/>
          <p:nvPr/>
        </p:nvPicPr>
        <p:blipFill>
          <a:blip r:embed="rId9"/>
          <a:stretch/>
        </p:blipFill>
        <p:spPr>
          <a:xfrm>
            <a:off x="4978440" y="5613480"/>
            <a:ext cx="3794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19:54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